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44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Georgia"/>
              </a:rPr>
              <a:t>Click to move the slide</a:t>
            </a: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1" lang="cs-CZ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4D93916-DA94-46A6-B6E1-20C2D63CC789}" type="slidenum">
              <a:rPr b="1" lang="cs-CZ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043B5DD-BC2C-497E-8B5B-B00407C815F2}" type="slidenum">
              <a:rPr b="1" lang="cs-CZ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Nadpis – název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odnadpis – jméno pobočky CpK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Vyhodnoceny byly i neúplné ankety. Každá otázka je vyhodnocená zlvášť, podle počtu odpovědí k dané otáz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Respondenti měli u otázky č. 3 na výběr z možností a zároveň mohli doplnit vlastní komentář k tomu, jaké úpravy či jiné aktivity by v kině uvíta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Celkem 308 respondentů (tj. 28% z celkového počtu respondentů) uvedlo nebo doplnilo vlastní komentář. Z toho 14 uvedlo, že by do kina nechodilo vůbe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E355-53F9-4A67-B46B-0994FBF96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601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3477-FE7B-4529-A318-B4FE729BA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BA76-7D14-4C85-8D71-1D6DA03B3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601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601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601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6E9B-0F3C-4AA6-B209-9DA69E501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92DC-3464-46C3-AA8F-3932AC773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0DA9-AC0C-4D5F-8C41-4651B7D0F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B471-046D-436C-8E3E-8610D7386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EABE-5A21-4733-8567-5DB6878DF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B0DC-966B-40EE-B060-13D97BA03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7FC5-7A05-42BB-93E4-9A5EED5B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39E4-F47D-41CB-876D-6B3C457A2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601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84F6-B297-411F-A3F9-3C76488A2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 flipV="1">
            <a:off x="0" y="6171480"/>
            <a:ext cx="9144000" cy="685800"/>
          </a:xfrm>
          <a:prstGeom prst="rect">
            <a:avLst/>
          </a:prstGeom>
          <a:solidFill>
            <a:srgbClr val="ff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Georgia"/>
              </a:rPr>
              <a:t>Click to edit the title text format</a:t>
            </a: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668520" indent="-2570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028520" indent="-20556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440000" indent="-20556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1851480" indent="-20556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cs-CZ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EDA99-C9F2-4F85-9DAE-CF3904BB9E8A}" type="datetime">
              <a:rPr b="1" i="1" lang="cs-CZ" sz="1800" spc="-1" strike="noStrike">
                <a:solidFill>
                  <a:srgbClr val="ffffff"/>
                </a:solidFill>
                <a:latin typeface="Georgia"/>
              </a:rPr>
              <a:t>29.07.2026</a:t>
            </a:fld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cs-CZ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Georgia"/>
              </a:rPr>
              <a:t>Snímek </a:t>
            </a:r>
            <a:fld id="{41E8A998-ADF8-4AA2-9814-57C925B95025}" type="slidenum">
              <a:rPr b="1" i="1" lang="cs-CZ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" name="Line 7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pic>
        <p:nvPicPr>
          <p:cNvPr id="7" name="Picture 10" descr="logosmall"/>
          <p:cNvPicPr/>
          <p:nvPr/>
        </p:nvPicPr>
        <p:blipFill>
          <a:blip r:embed="rId2"/>
          <a:stretch/>
        </p:blipFill>
        <p:spPr>
          <a:xfrm>
            <a:off x="6734160" y="228600"/>
            <a:ext cx="1724040" cy="3618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8"/>
          <p:cNvSpPr/>
          <p:nvPr/>
        </p:nvSpPr>
        <p:spPr>
          <a:xfrm flipV="1">
            <a:off x="0" y="6171480"/>
            <a:ext cx="9144000" cy="685800"/>
          </a:xfrm>
          <a:prstGeom prst="rect">
            <a:avLst/>
          </a:prstGeom>
          <a:solidFill>
            <a:srgbClr val="ff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cs-CZ" sz="4000" spc="-1" strike="noStrike">
                <a:solidFill>
                  <a:srgbClr val="ff9900"/>
                </a:solidFill>
                <a:latin typeface="Georgia"/>
              </a:rPr>
              <a:t>Anketa – kino Otava Horažďovice</a:t>
            </a:r>
            <a:br>
              <a:rPr sz="4000"/>
            </a:br>
            <a:br>
              <a:rPr sz="3600"/>
            </a:b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03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b2b2b2"/>
                </a:solidFill>
                <a:latin typeface="Arial"/>
              </a:rPr>
              <a:t>7</a:t>
            </a:r>
            <a:r>
              <a:rPr b="0" lang="cs-CZ" sz="2800" spc="-1" strike="noStrike">
                <a:solidFill>
                  <a:srgbClr val="b2b2b2"/>
                </a:solidFill>
                <a:latin typeface="Georgia"/>
              </a:rPr>
              <a:t>. </a:t>
            </a:r>
            <a:r>
              <a:rPr b="0" lang="cs-CZ" sz="2800" spc="-1" strike="noStrike">
                <a:solidFill>
                  <a:srgbClr val="b2b2b2"/>
                </a:solidFill>
                <a:latin typeface="Arial"/>
              </a:rPr>
              <a:t>4. </a:t>
            </a:r>
            <a:r>
              <a:rPr b="0" lang="cs-CZ" sz="2800" spc="-1" strike="noStrike">
                <a:solidFill>
                  <a:srgbClr val="b2b2b2"/>
                </a:solidFill>
                <a:latin typeface="Georgia"/>
              </a:rPr>
              <a:t>2016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4479840" y="285264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pic>
        <p:nvPicPr>
          <p:cNvPr id="55" name="Picture 7" descr="cpkp_logo_small_RGB"/>
          <p:cNvPicPr/>
          <p:nvPr/>
        </p:nvPicPr>
        <p:blipFill>
          <a:blip r:embed="rId1"/>
          <a:stretch/>
        </p:blipFill>
        <p:spPr>
          <a:xfrm>
            <a:off x="3564000" y="4941720"/>
            <a:ext cx="1890720" cy="4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Zástupný symbol pro datum 3"/>
          <p:cNvSpPr/>
          <p:nvPr/>
        </p:nvSpPr>
        <p:spPr>
          <a:xfrm>
            <a:off x="665964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4" name="Zástupný symbol pro číslo snímku 5"/>
          <p:cNvSpPr/>
          <p:nvPr/>
        </p:nvSpPr>
        <p:spPr>
          <a:xfrm>
            <a:off x="68580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68360" y="2997360"/>
            <a:ext cx="8229600" cy="22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Centrum pro komunitní práci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západní Čech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Americká 29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Plzeň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377 329 558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www.cpkp-zc.cz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6" name="Picture 4" descr="logo_cpkp"/>
          <p:cNvPicPr/>
          <p:nvPr/>
        </p:nvPicPr>
        <p:blipFill>
          <a:blip r:embed="rId1"/>
          <a:stretch/>
        </p:blipFill>
        <p:spPr>
          <a:xfrm>
            <a:off x="3995640" y="1773360"/>
            <a:ext cx="1152720" cy="10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9900"/>
                </a:solidFill>
                <a:latin typeface="Georgia"/>
              </a:rPr>
              <a:t>Základní údaje</a:t>
            </a: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22.12.2015 až 22.2.2016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Informace o anketě s tištěným anketním lístkem ve vydání Horažďovického obzoru (2x), odkaz na elektronický formulář na webu měst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Sběrná místa: na Městském úřadě v podatelně, v Knihovně v oddělení pro dospělé, nebo přímo u pokladny v kině Otava, ZŠ a SŠ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eorgia"/>
              </a:rPr>
              <a:t>1091 vyplněných anket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(620 tištěných, 471 elektronických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9900"/>
                </a:solidFill>
                <a:latin typeface="Georgia"/>
              </a:rPr>
              <a:t>Charakteristika respondentů ankety</a:t>
            </a:r>
            <a:endParaRPr b="1" lang="en-US" sz="36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59% ženy, 41% muži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Georgia"/>
              </a:rPr>
              <a:t>22% ve věku 7-14 let, 54% 15-39 let, 16% 40-59 let,  8% 60 a více le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Místo bydlišt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65% respondentů z Horažďovic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6% z přidružených obcí a 19% z okolí Horažďovick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10% jiné město (Praha, Plzeňský kraj, Jihočeský kraj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6"/>
          <p:cNvSpPr/>
          <p:nvPr/>
        </p:nvSpPr>
        <p:spPr>
          <a:xfrm>
            <a:off x="543600" y="5805000"/>
            <a:ext cx="428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Graf 2 Odpovědi na „Věk:“ </a:t>
            </a:r>
            <a:r>
              <a:rPr b="1" i="1" lang="cs-CZ" sz="1600" spc="-1" strike="noStrike">
                <a:solidFill>
                  <a:srgbClr val="000000"/>
                </a:solidFill>
                <a:latin typeface="Times New Roman"/>
              </a:rPr>
              <a:t>Zodpovězeno 1069x</a:t>
            </a: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61" name="Object 8"/>
          <p:cNvGraphicFramePr/>
          <p:nvPr/>
        </p:nvGraphicFramePr>
        <p:xfrm>
          <a:off x="468360" y="620640"/>
          <a:ext cx="8137440" cy="521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620640"/>
                    <a:ext cx="8137440" cy="52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784"/>
          <p:cNvSpPr/>
          <p:nvPr/>
        </p:nvSpPr>
        <p:spPr>
          <a:xfrm>
            <a:off x="-34920" y="6021360"/>
            <a:ext cx="9178920" cy="83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4" name="Rectangle 4778"/>
          <p:cNvSpPr/>
          <p:nvPr/>
        </p:nvSpPr>
        <p:spPr>
          <a:xfrm>
            <a:off x="395280" y="798480"/>
            <a:ext cx="187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Jak často chodíte do kina (obecně kamkoliv)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5" name="Text Box 4785"/>
          <p:cNvSpPr/>
          <p:nvPr/>
        </p:nvSpPr>
        <p:spPr>
          <a:xfrm>
            <a:off x="395280" y="206064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808080"/>
                </a:solidFill>
                <a:latin typeface="Georgia"/>
              </a:rPr>
              <a:t>Zodpovězeno 1058x</a:t>
            </a:r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771640" y="836640"/>
          <a:ext cx="5832720" cy="2103480"/>
        </p:xfrm>
        <a:graphic>
          <a:graphicData uri="http://schemas.openxmlformats.org/drawingml/2006/table">
            <a:tbl>
              <a:tblPr/>
              <a:tblGrid>
                <a:gridCol w="2944800"/>
                <a:gridCol w="1443240"/>
                <a:gridCol w="14446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žnosti 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čet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íl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za měsí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8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do roka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4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,8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ně často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3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0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ůbe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3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4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2771640" y="3789360"/>
          <a:ext cx="5762880" cy="2103480"/>
        </p:xfrm>
        <a:graphic>
          <a:graphicData uri="http://schemas.openxmlformats.org/drawingml/2006/table">
            <a:tbl>
              <a:tblPr/>
              <a:tblGrid>
                <a:gridCol w="3090960"/>
                <a:gridCol w="1336680"/>
                <a:gridCol w="13352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žnosti 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čet 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íl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za měsí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do roka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9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4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ně často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9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8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ůbe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9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,1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</a:tr>
            </a:tbl>
          </a:graphicData>
        </a:graphic>
      </p:graphicFrame>
      <p:sp>
        <p:nvSpPr>
          <p:cNvPr id="68" name="Rectangle 5142"/>
          <p:cNvSpPr/>
          <p:nvPr/>
        </p:nvSpPr>
        <p:spPr>
          <a:xfrm>
            <a:off x="395280" y="375120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Jak často navštěvujete kino Otava v Horažďovicích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9" name="Text Box 5143"/>
          <p:cNvSpPr/>
          <p:nvPr/>
        </p:nvSpPr>
        <p:spPr>
          <a:xfrm>
            <a:off x="395280" y="501336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808080"/>
                </a:solidFill>
                <a:latin typeface="Georgia"/>
              </a:rPr>
              <a:t>Zodpovězeno 1085x</a:t>
            </a:r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1"/>
          <p:cNvSpPr/>
          <p:nvPr/>
        </p:nvSpPr>
        <p:spPr>
          <a:xfrm>
            <a:off x="324000" y="836640"/>
            <a:ext cx="172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Chodil/a byste do kina Otava v Horažďovicích častěji, kdyby zde byly provedeny následující úpravy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71" name="Rectangle 285"/>
          <p:cNvSpPr/>
          <p:nvPr/>
        </p:nvSpPr>
        <p:spPr>
          <a:xfrm>
            <a:off x="324000" y="3883680"/>
            <a:ext cx="165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Georgia"/>
                <a:ea typeface="Times New Roman"/>
              </a:rPr>
              <a:t>Otázka č. 3</a:t>
            </a: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808080"/>
                </a:solidFill>
                <a:latin typeface="Georgia"/>
                <a:ea typeface="Times New Roman"/>
              </a:rPr>
              <a:t>Zodpovězeno 1004x</a:t>
            </a: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124000" y="836640"/>
          <a:ext cx="6556320" cy="4440240"/>
        </p:xfrm>
        <a:graphic>
          <a:graphicData uri="http://schemas.openxmlformats.org/drawingml/2006/table">
            <a:tbl>
              <a:tblPr/>
              <a:tblGrid>
                <a:gridCol w="4467240"/>
                <a:gridCol w="1155600"/>
                <a:gridCol w="9334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žnosti odpovědí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čet odpovědí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íl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dernizace kina – nové sedačky např.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2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9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mítání prémiérových filmů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3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0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levový systém pro časté návštěvníky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7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6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mítání pro děti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5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4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íce promítacích dní v týdnu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6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5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mový klub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4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3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kud navrhujete v kině jiné úpravy nebo byste uvítal/a kromě promítání i jiné aktivity, tak je prosím napište: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8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7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9900"/>
                </a:solidFill>
                <a:latin typeface="Georgia"/>
              </a:rPr>
              <a:t>Návrhy na úpravu kina či na jiné aktivity</a:t>
            </a:r>
            <a:endParaRPr b="1" lang="en-US" sz="3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000" y="220500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Modernizace,rekonstrukce budovy kina a jeho vybavení (190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Kvalitnější program (64x)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Občerstvení v kině (44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Snížit vstupné (17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Častější promítání (13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Lepší propagace (7x), personální otázka (5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Rezervační systém (2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7960" y="220968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Náměty na kulturní akce v kině (59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Multifunkční centrum (zmenšit kino a přidat další aktivity) – 41x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5"/>
          <p:cNvSpPr/>
          <p:nvPr/>
        </p:nvSpPr>
        <p:spPr>
          <a:xfrm>
            <a:off x="612720" y="1073160"/>
            <a:ext cx="172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K jakému názoru se přikláníte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77" name="Rectangle 232"/>
          <p:cNvSpPr/>
          <p:nvPr/>
        </p:nvSpPr>
        <p:spPr>
          <a:xfrm>
            <a:off x="684360" y="2097360"/>
            <a:ext cx="1800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808080"/>
                </a:solidFill>
                <a:latin typeface="Georgia"/>
                <a:ea typeface="Times New Roman"/>
              </a:rPr>
              <a:t>Otázka č. 4</a:t>
            </a:r>
            <a:endParaRPr b="1" lang="en-US" sz="14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808080"/>
                </a:solidFill>
                <a:latin typeface="Georgia"/>
                <a:ea typeface="Times New Roman"/>
              </a:rPr>
              <a:t>Zodpovězeno 1058x</a:t>
            </a:r>
            <a:endParaRPr b="1" lang="en-US" sz="14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78" name="Object 245"/>
          <p:cNvGraphicFramePr/>
          <p:nvPr/>
        </p:nvGraphicFramePr>
        <p:xfrm>
          <a:off x="2771640" y="692280"/>
          <a:ext cx="5143680" cy="4952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Object 24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692280"/>
                    <a:ext cx="514368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9900"/>
                </a:solidFill>
                <a:latin typeface="Georgia"/>
              </a:rPr>
              <a:t>Pro jaké účely byste chtěl/a dále využívat kino, pokud by bylo ukončeno promítání</a:t>
            </a:r>
            <a:endParaRPr b="1" lang="en-US" sz="28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000" y="220500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Kulturu (53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Služby, komerční podniky (40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Sport (33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Klubovny (10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Parkoviště, parkovací dům (8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Park, hřiště (8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7960" y="220968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3T22:15:28Z</dcterms:created>
  <dc:creator>Pavel Sláma</dc:creator>
  <dc:description/>
  <dc:language>en-US</dc:language>
  <cp:lastModifiedBy>Michael Forman</cp:lastModifiedBy>
  <dcterms:modified xsi:type="dcterms:W3CDTF">2016-04-07T14:31:48Z</dcterms:modified>
  <cp:revision>185</cp:revision>
  <dc:subject/>
  <dc:title>Prezentace aplikac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Type">
    <vt:lpwstr>1</vt:lpwstr>
  </property>
</Properties>
</file>