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wmf" ContentType="image/x-wmf"/>
  <Override PartName="/ppt/media/image5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67968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3852720" y="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4400" cy="3722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move the slid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  <a:defRPr b="1" lang="cs-CZ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071F2DAF-AB60-4919-BAD4-9B8728546BE5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7"/>
          <p:cNvSpPr/>
          <p:nvPr/>
        </p:nvSpPr>
        <p:spPr>
          <a:xfrm>
            <a:off x="3852720" y="9431280"/>
            <a:ext cx="294480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1080" rIns="9108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9B9EDBB3-4D32-4F6C-8355-6CBBB2946ED1}" type="slidenum">
              <a:rPr b="1" lang="cs-CZ" sz="12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Nadpis – název prezent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Podnadpis – jméno pobočky CpK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Vyhodnoceny byly i neúplné ankety. Každá otázka je vyhodnocená zlvášť, podle počtu odpovědí k dané otáz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sldImg"/>
          </p:nvPr>
        </p:nvSpPr>
        <p:spPr>
          <a:xfrm>
            <a:off x="915840" y="744480"/>
            <a:ext cx="4964400" cy="3722760"/>
          </a:xfrm>
          <a:prstGeom prst="rect">
            <a:avLst/>
          </a:prstGeom>
          <a:ln w="0">
            <a:noFill/>
          </a:ln>
        </p:spPr>
      </p:sp>
      <p:sp>
        <p:nvSpPr>
          <p:cNvPr id="93" name="PlaceHolder 2"/>
          <p:cNvSpPr>
            <a:spLocks noGrp="1"/>
          </p:cNvSpPr>
          <p:nvPr>
            <p:ph type="body"/>
          </p:nvPr>
        </p:nvSpPr>
        <p:spPr>
          <a:xfrm>
            <a:off x="906480" y="4716000"/>
            <a:ext cx="4984560" cy="4467240"/>
          </a:xfrm>
          <a:prstGeom prst="rect">
            <a:avLst/>
          </a:prstGeom>
          <a:noFill/>
          <a:ln w="0">
            <a:noFill/>
          </a:ln>
        </p:spPr>
        <p:txBody>
          <a:bodyPr lIns="91080" rIns="91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Respondenti měli u otázky č. 3 na výběr z možností a zároveň mohli doplnit vlastní komentář k tomu, jaké úpravy či jiné aktivity by v kině uvítaly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Celkem 308 respondentů (tj. 28% z celkového počtu respondentů) uvedlo nebo doplnilo vlastní komentář. Z toho 14 uvedlo, že by do kina nechodilo vůb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84AC2-E35C-4981-8C5F-515039DE94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76ACC-C40C-4BEA-A187-44C845516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0CCE0-8B41-48D6-8027-4AAA7EA59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220968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60160"/>
            <a:ext cx="250236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4505F-6713-41E6-9878-008B74E572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A64E8-FE47-43CF-8FD3-24FC3F25F3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ECF49-2463-480A-A8DA-E35C081302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8915E-3091-4CE4-9A8F-ABC121F27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F140E-983C-4274-B55A-D781CBD64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9140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3C822B-9EF2-4223-A025-C748AE163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5B5E8-6072-40C5-9DFA-8620C3467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6016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7B234-8C84-4401-BE4D-628373DF6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2209680"/>
            <a:ext cx="37926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60160"/>
            <a:ext cx="7772400" cy="178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814E-C1B1-4674-B6D7-BB61D2200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Georgia"/>
              </a:rPr>
              <a:t>Click to edit the title text format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1" marL="668520" indent="-25704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2" marL="1028520" indent="-205560">
              <a:spcBef>
                <a:spcPts val="7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3" marL="1440000" indent="-205560">
              <a:spcBef>
                <a:spcPts val="799"/>
              </a:spcBef>
              <a:buClr>
                <a:srgbClr val="000000"/>
              </a:buClr>
              <a:buFont typeface="Georgi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4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5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lvl="6" marL="1851480" indent="-205560">
              <a:spcBef>
                <a:spcPts val="799"/>
              </a:spcBef>
              <a:buClr>
                <a:srgbClr val="000000"/>
              </a:buClr>
              <a:buFont typeface="Georgi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828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6BECF-5761-4330-AED4-8E547AA94381}" type="datetime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28.07.2026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248520"/>
            <a:ext cx="4191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i="1" lang="cs-CZ" sz="18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800" spc="-1" strike="noStrike">
                <a:solidFill>
                  <a:srgbClr val="ffffff"/>
                </a:solidFill>
                <a:latin typeface="Georgia"/>
              </a:rPr>
              <a:t>Snímek </a:t>
            </a:r>
            <a:fld id="{09ACCB98-9E60-4123-B848-C1A2AAAC300C}" type="slidenum">
              <a:rPr b="1" i="1" lang="cs-CZ" sz="18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" name="Line 7"/>
          <p:cNvSpPr/>
          <p:nvPr/>
        </p:nvSpPr>
        <p:spPr>
          <a:xfrm>
            <a:off x="0" y="6172200"/>
            <a:ext cx="9144000" cy="0"/>
          </a:xfrm>
          <a:prstGeom prst="line">
            <a:avLst/>
          </a:prstGeom>
          <a:ln w="381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7" name="Picture 10" descr="logosmall"/>
          <p:cNvPicPr/>
          <p:nvPr/>
        </p:nvPicPr>
        <p:blipFill>
          <a:blip r:embed="rId2"/>
          <a:stretch/>
        </p:blipFill>
        <p:spPr>
          <a:xfrm>
            <a:off x="6734160" y="228600"/>
            <a:ext cx="1724040" cy="361800"/>
          </a:xfrm>
          <a:prstGeom prst="rect">
            <a:avLst/>
          </a:prstGeom>
          <a:ln w="0">
            <a:noFill/>
          </a:ln>
        </p:spPr>
      </p:pic>
      <p:sp>
        <p:nvSpPr>
          <p:cNvPr id="8" name="Rectangle 8"/>
          <p:cNvSpPr/>
          <p:nvPr/>
        </p:nvSpPr>
        <p:spPr>
          <a:xfrm flipV="1">
            <a:off x="0" y="6171480"/>
            <a:ext cx="9144000" cy="685800"/>
          </a:xfrm>
          <a:prstGeom prst="rect">
            <a:avLst/>
          </a:prstGeom>
          <a:solidFill>
            <a:srgbClr val="ff6e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Anketa – kino Otava Horažďovice</a:t>
            </a:r>
            <a:br>
              <a:rPr sz="4000"/>
            </a:br>
            <a:br>
              <a:rPr sz="3600"/>
            </a:b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1403280" y="429264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7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. </a:t>
            </a:r>
            <a:r>
              <a:rPr b="0" lang="cs-CZ" sz="2800" spc="-1" strike="noStrike">
                <a:solidFill>
                  <a:srgbClr val="b2b2b2"/>
                </a:solidFill>
                <a:latin typeface="Arial"/>
              </a:rPr>
              <a:t>4. </a:t>
            </a:r>
            <a:r>
              <a:rPr b="0" lang="cs-CZ" sz="2800" spc="-1" strike="noStrike">
                <a:solidFill>
                  <a:srgbClr val="b2b2b2"/>
                </a:solidFill>
                <a:latin typeface="Georgia"/>
              </a:rPr>
              <a:t>2016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Rectangle 8"/>
          <p:cNvSpPr/>
          <p:nvPr/>
        </p:nvSpPr>
        <p:spPr>
          <a:xfrm>
            <a:off x="4479840" y="2852640"/>
            <a:ext cx="18432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pic>
        <p:nvPicPr>
          <p:cNvPr id="55" name="Picture 7" descr="cpkp_logo_small_RGB"/>
          <p:cNvPicPr/>
          <p:nvPr/>
        </p:nvPicPr>
        <p:blipFill>
          <a:blip r:embed="rId1"/>
          <a:stretch/>
        </p:blipFill>
        <p:spPr>
          <a:xfrm>
            <a:off x="3564000" y="4941720"/>
            <a:ext cx="1890720" cy="45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Zástupný symbol pro datum 3"/>
          <p:cNvSpPr/>
          <p:nvPr/>
        </p:nvSpPr>
        <p:spPr>
          <a:xfrm>
            <a:off x="6659640" y="6400800"/>
            <a:ext cx="1828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4" name="Zástupný symbol pro číslo snímku 5"/>
          <p:cNvSpPr/>
          <p:nvPr/>
        </p:nvSpPr>
        <p:spPr>
          <a:xfrm>
            <a:off x="685800" y="6248520"/>
            <a:ext cx="1447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/>
          </p:nvPr>
        </p:nvSpPr>
        <p:spPr>
          <a:xfrm>
            <a:off x="468360" y="2997360"/>
            <a:ext cx="8229600" cy="229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Centrum pro komunitní práci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Book Antiqua"/>
              </a:rPr>
              <a:t>západní Čechy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Americká 29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Plzeň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377 329 558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600" spc="-1" strike="noStrike">
                <a:solidFill>
                  <a:srgbClr val="000000"/>
                </a:solidFill>
                <a:latin typeface="Book Antiqua"/>
              </a:rPr>
              <a:t>www.cpkp-zc.cz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86" name="Picture 4" descr="logo_cpkp"/>
          <p:cNvPicPr/>
          <p:nvPr/>
        </p:nvPicPr>
        <p:blipFill>
          <a:blip r:embed="rId1"/>
          <a:stretch/>
        </p:blipFill>
        <p:spPr>
          <a:xfrm>
            <a:off x="3995640" y="1773360"/>
            <a:ext cx="1152720" cy="108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4000" spc="-1" strike="noStrike">
                <a:solidFill>
                  <a:srgbClr val="ff9900"/>
                </a:solidFill>
                <a:latin typeface="Georgia"/>
              </a:rPr>
              <a:t>Základní údaje</a:t>
            </a:r>
            <a:endParaRPr b="1" lang="en-US" sz="4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22.12.2015 až 22.2.2016 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Informace o anketě s tištěným anketním lístkem ve vydání Horažďovického obzoru (2x), odkaz na elektronický formulář na webu města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Sběrná místa: na Městském úřadě v podatelně, v Knihovně v oddělení pro dospělé, nebo přímo u pokladny v kině Otava, ZŠ a SŠ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400" spc="-1" strike="noStrike">
                <a:solidFill>
                  <a:srgbClr val="000000"/>
                </a:solidFill>
                <a:latin typeface="Georgia"/>
              </a:rPr>
              <a:t>1091 vyplněných anket</a:t>
            </a:r>
            <a:r>
              <a:rPr b="0" lang="cs-CZ" sz="2400" spc="-1" strike="noStrike">
                <a:solidFill>
                  <a:srgbClr val="000000"/>
                </a:solidFill>
                <a:latin typeface="Georgia"/>
              </a:rPr>
              <a:t> (620 tištěných, 471 elektronických)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4360" y="90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600" spc="-1" strike="noStrike">
                <a:solidFill>
                  <a:srgbClr val="ff9900"/>
                </a:solidFill>
                <a:latin typeface="Georgia"/>
              </a:rPr>
              <a:t>Charakteristika respondentů ankety</a:t>
            </a:r>
            <a:endParaRPr b="1" lang="en-US" sz="36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59% ženy, 41% muži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000000"/>
                </a:solidFill>
                <a:latin typeface="Georgia"/>
              </a:rPr>
              <a:t>22% ve věku 7-14 let, 54% 15-39 let, 16% 40-59 let,  8% 60 a více let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Místo bydliště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5% respondentů z Horažďovic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6% z přidružených obcí a 19% z okolí Horažďovicka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Georgia"/>
              </a:rPr>
              <a:t>10% jiné město (Praha, Plzeňský kraj, Jihočeský kraj)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6"/>
          <p:cNvSpPr/>
          <p:nvPr/>
        </p:nvSpPr>
        <p:spPr>
          <a:xfrm>
            <a:off x="543600" y="5805000"/>
            <a:ext cx="428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000000"/>
                </a:solidFill>
                <a:latin typeface="Times New Roman"/>
              </a:rPr>
              <a:t>Graf 2 Odpovědi na „Věk:“ </a:t>
            </a:r>
            <a:r>
              <a:rPr b="1" i="1" lang="cs-CZ" sz="1600" spc="-1" strike="noStrike">
                <a:solidFill>
                  <a:srgbClr val="000000"/>
                </a:solidFill>
                <a:latin typeface="Times New Roman"/>
              </a:rPr>
              <a:t>Zodpovězeno 1069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1" name="Object 8"/>
          <p:cNvGraphicFramePr/>
          <p:nvPr/>
        </p:nvGraphicFramePr>
        <p:xfrm>
          <a:off x="468360" y="620640"/>
          <a:ext cx="8137440" cy="52149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62" name="Object 8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68360" y="620640"/>
                    <a:ext cx="8137440" cy="5214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Rectangle 4784"/>
          <p:cNvSpPr/>
          <p:nvPr/>
        </p:nvSpPr>
        <p:spPr>
          <a:xfrm>
            <a:off x="-34920" y="6021360"/>
            <a:ext cx="9178920" cy="836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4" name="Rectangle 4778"/>
          <p:cNvSpPr/>
          <p:nvPr/>
        </p:nvSpPr>
        <p:spPr>
          <a:xfrm>
            <a:off x="395280" y="798480"/>
            <a:ext cx="187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chodíte do kina (obecně kamkoliv)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5" name="Text Box 4785"/>
          <p:cNvSpPr/>
          <p:nvPr/>
        </p:nvSpPr>
        <p:spPr>
          <a:xfrm>
            <a:off x="395280" y="206064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58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66" name=""/>
          <p:cNvGraphicFramePr/>
          <p:nvPr/>
        </p:nvGraphicFramePr>
        <p:xfrm>
          <a:off x="2771640" y="836640"/>
          <a:ext cx="5832720" cy="2103480"/>
        </p:xfrm>
        <a:graphic>
          <a:graphicData uri="http://schemas.openxmlformats.org/drawingml/2006/table">
            <a:tbl>
              <a:tblPr/>
              <a:tblGrid>
                <a:gridCol w="2944800"/>
                <a:gridCol w="1443240"/>
                <a:gridCol w="144468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očet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74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2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8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,0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cc99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3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67" name=""/>
          <p:cNvGraphicFramePr/>
          <p:nvPr/>
        </p:nvGraphicFramePr>
        <p:xfrm>
          <a:off x="2771640" y="3789360"/>
          <a:ext cx="5762880" cy="2103480"/>
        </p:xfrm>
        <a:graphic>
          <a:graphicData uri="http://schemas.openxmlformats.org/drawingml/2006/table">
            <a:tbl>
              <a:tblPr/>
              <a:tblGrid>
                <a:gridCol w="3090960"/>
                <a:gridCol w="1336680"/>
                <a:gridCol w="133524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za měsí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několikrát do roka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,4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éně často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9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,8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9900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ůbec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79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4,1 %</a:t>
                      </a:r>
                      <a:endParaRPr b="1" lang="en-US" sz="18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969696"/>
                      </a:solidFill>
                    </a:lnT>
                    <a:lnB w="5760">
                      <a:solidFill>
                        <a:srgbClr val="969696"/>
                      </a:solidFill>
                    </a:lnB>
                    <a:solidFill>
                      <a:srgbClr val="ff6600"/>
                    </a:solidFill>
                  </a:tcPr>
                </a:tc>
              </a:tr>
            </a:tbl>
          </a:graphicData>
        </a:graphic>
      </p:graphicFrame>
      <p:sp>
        <p:nvSpPr>
          <p:cNvPr id="68" name="Rectangle 5142"/>
          <p:cNvSpPr/>
          <p:nvPr/>
        </p:nvSpPr>
        <p:spPr>
          <a:xfrm>
            <a:off x="395280" y="3751200"/>
            <a:ext cx="223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Jak často navštěvujete kino Otava v Horažďovicích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69" name="Text Box 5143"/>
          <p:cNvSpPr/>
          <p:nvPr/>
        </p:nvSpPr>
        <p:spPr>
          <a:xfrm>
            <a:off x="395280" y="5013360"/>
            <a:ext cx="172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200" spc="-1" strike="noStrike">
                <a:solidFill>
                  <a:srgbClr val="808080"/>
                </a:solidFill>
                <a:latin typeface="Georgia"/>
              </a:rPr>
              <a:t>Zodpovězeno 1085x</a:t>
            </a:r>
            <a:endParaRPr b="1" lang="en-US" sz="1200" spc="-1" strike="noStrike">
              <a:solidFill>
                <a:srgbClr val="b2b2b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ectangle 21"/>
          <p:cNvSpPr/>
          <p:nvPr/>
        </p:nvSpPr>
        <p:spPr>
          <a:xfrm>
            <a:off x="324000" y="836640"/>
            <a:ext cx="17287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Chodil/a byste do kina Otava v Horažďovicích častěji, kdyby zde byly provedeny následující úpravy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1" name="Rectangle 285"/>
          <p:cNvSpPr/>
          <p:nvPr/>
        </p:nvSpPr>
        <p:spPr>
          <a:xfrm>
            <a:off x="324000" y="388368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3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cs-CZ" sz="16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04x</a:t>
            </a:r>
            <a:endParaRPr b="1" lang="en-US" sz="16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2124000" y="836640"/>
          <a:ext cx="6556320" cy="4440240"/>
        </p:xfrm>
        <a:graphic>
          <a:graphicData uri="http://schemas.openxmlformats.org/drawingml/2006/table">
            <a:tbl>
              <a:tblPr/>
              <a:tblGrid>
                <a:gridCol w="4467240"/>
                <a:gridCol w="1155600"/>
                <a:gridCol w="933480"/>
              </a:tblGrid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žnosti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čet odpovědí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díl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c0c0c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modernizace kina – nové sedačky např.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32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9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émiérových filmů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3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2,0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6600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slevový systém pro časté návštěvníky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7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1,6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romítání pro děti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5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,4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více promítacích dní v týdnu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6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5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99"/>
                    </a:solidFill>
                  </a:tcPr>
                </a:tc>
              </a:tr>
              <a:tr h="439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filmový klub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4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9,3 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09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pokud navrhujete v kině jiné úpravy nebo byste uvítal/a kromě promítání i jiné aktivity, tak je prosím napište: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808080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8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969696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cs-CZ" sz="2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,7%</a:t>
                      </a:r>
                      <a:endParaRPr b="1" lang="en-US" sz="2000" spc="-1" strike="noStrike">
                        <a:solidFill>
                          <a:srgbClr val="b2b2b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969696"/>
                      </a:solidFill>
                    </a:lnL>
                    <a:lnR w="5760">
                      <a:solidFill>
                        <a:srgbClr val="808080"/>
                      </a:solidFill>
                    </a:lnR>
                    <a:lnT w="5760">
                      <a:solidFill>
                        <a:srgbClr val="808080"/>
                      </a:solidFill>
                    </a:lnT>
                    <a:lnB w="5760">
                      <a:solidFill>
                        <a:srgbClr val="80808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000" spc="-1" strike="noStrike">
                <a:solidFill>
                  <a:srgbClr val="ff9900"/>
                </a:solidFill>
                <a:latin typeface="Georgia"/>
              </a:rPr>
              <a:t>Návrhy na úpravu kina či na jiné aktivity</a:t>
            </a:r>
            <a:endParaRPr b="1" lang="en-US" sz="30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odernizace,rekonstrukce budovy kina a jeho vybavení (190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Kvalitnější program (64x)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Občerstvení v kině (44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Snížit vstupné (17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Častější promítání (13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Lepší propagace (7x), personální otázka (5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Rezervační systém (2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Náměty na kulturní akce v kině (59x)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Georgia"/>
              </a:rPr>
              <a:t>Multifunkční centrum (zmenšit kino a přidat další aktivity) – 41x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Rectangle 15"/>
          <p:cNvSpPr/>
          <p:nvPr/>
        </p:nvSpPr>
        <p:spPr>
          <a:xfrm>
            <a:off x="612720" y="1073160"/>
            <a:ext cx="1727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ff9900"/>
                </a:solidFill>
                <a:latin typeface="Georgia"/>
              </a:rPr>
              <a:t>K jakému názoru se přikláníte?</a:t>
            </a:r>
            <a:endParaRPr b="1" lang="en-US" sz="1800" spc="-1" strike="noStrike">
              <a:solidFill>
                <a:srgbClr val="b2b2b2"/>
              </a:solidFill>
              <a:latin typeface="Times New Roman"/>
            </a:endParaRPr>
          </a:p>
        </p:txBody>
      </p:sp>
      <p:sp>
        <p:nvSpPr>
          <p:cNvPr id="77" name="Rectangle 232"/>
          <p:cNvSpPr/>
          <p:nvPr/>
        </p:nvSpPr>
        <p:spPr>
          <a:xfrm>
            <a:off x="684360" y="2097360"/>
            <a:ext cx="18000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Otázka č. 4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808080"/>
                </a:solidFill>
                <a:latin typeface="Georgia"/>
                <a:ea typeface="Times New Roman"/>
              </a:rPr>
              <a:t>Zodpovězeno 1058x</a:t>
            </a:r>
            <a:endParaRPr b="1" lang="en-US" sz="1400" spc="-1" strike="noStrike">
              <a:solidFill>
                <a:srgbClr val="b2b2b2"/>
              </a:solidFill>
              <a:latin typeface="Times New Roman"/>
            </a:endParaRPr>
          </a:p>
        </p:txBody>
      </p:sp>
      <p:graphicFrame>
        <p:nvGraphicFramePr>
          <p:cNvPr id="78" name="Object 245"/>
          <p:cNvGraphicFramePr/>
          <p:nvPr/>
        </p:nvGraphicFramePr>
        <p:xfrm>
          <a:off x="2771640" y="692280"/>
          <a:ext cx="5143680" cy="495288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79" name="Object 245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692280"/>
                    <a:ext cx="5143680" cy="495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2800" spc="-1" strike="noStrike">
                <a:solidFill>
                  <a:srgbClr val="ff9900"/>
                </a:solidFill>
                <a:latin typeface="Georgia"/>
              </a:rPr>
              <a:t>Pro jaké účely byste chtěl/a dále využívat kino, pokud by bylo ukončeno promítání</a:t>
            </a:r>
            <a:endParaRPr b="1" lang="en-US" sz="2800" spc="-1" strike="noStrike">
              <a:solidFill>
                <a:srgbClr val="ff9900"/>
              </a:solidFill>
              <a:latin typeface="Georg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4000" y="220500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ulturu (5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lužby, komerční podniky (4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Sport (33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Klubovny (10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oviště, parkovací dům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600" spc="-1" strike="noStrike">
                <a:solidFill>
                  <a:srgbClr val="000000"/>
                </a:solidFill>
                <a:latin typeface="Georgia"/>
              </a:rPr>
              <a:t>Park, hřiště (8x)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cs-CZ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0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3T22:15:28Z</dcterms:created>
  <dc:creator>Pavel Sláma</dc:creator>
  <dc:description/>
  <dc:language>en-US</dc:language>
  <cp:lastModifiedBy>Michael Forman</cp:lastModifiedBy>
  <dcterms:modified xsi:type="dcterms:W3CDTF">2016-04-07T14:31:48Z</dcterms:modified>
  <cp:revision>185</cp:revision>
  <dc:subject/>
  <dc:title>Prezentace aplikace PowerPoint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DocumentType">
    <vt:lpwstr>1</vt:lpwstr>
  </property>
</Properties>
</file>